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33F-7CB9-4A5B-B8A3-6FAFBCD7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162-6D51-498C-A377-FA17FB94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B8B-C123-4612-9007-505D7414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19B1-FBCA-4315-AA7D-726B4C2A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4236-C54C-463D-89DF-AAD33435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95D1-6C77-4C43-A4D6-3AA5A9A8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A243-DAE2-49DC-BDDC-D9D859C3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676D-CA10-4C25-B164-3ED25B4A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2CBB-C879-47D8-A733-7664B78B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FB46-DF34-4E93-83AD-333C42D1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84FC-E56E-4723-A030-A87ED56F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F47-294D-474B-8850-EC8585C0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BA1E-8BBB-41E8-96DE-495051E8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D6D0-C82F-403C-B17B-0208DEF0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5D18-787A-47C4-A97D-6E4AC3DC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BC74-68BF-4092-BC72-DD7C3AE2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3E39-01E3-4754-8B69-493E3612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1FD-8D91-41E1-A4D6-A66BE87E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901-9F96-4D77-9DDD-9BE1351D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7BF-2A69-4635-B37C-6B6242FF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4BA-41A8-4801-843C-5BA03D1C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E44-0139-4615-A91E-54162223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A79-9B2C-4966-8904-E6CD5687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601-8708-4F53-8FD0-24ABBC48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F735-C58D-488D-82AF-1671167C6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2B59-3621-457A-8247-11E42CE32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9280" y="1197000"/>
            <a:ext cx="820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ae pump athletwr yn cystadlu mewn ras traws-gwl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13880" y="404640"/>
            <a:ext cx="24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 u="sng">
                <a:solidFill>
                  <a:srgbClr val="ffffff"/>
                </a:solidFill>
                <a:uFillTx/>
                <a:latin typeface="Comic Sans MS"/>
              </a:rPr>
              <a:t>Athletwy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349360"/>
            <a:ext cx="748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O’r wybodaeth ganlynol, penderfynwch ym mha safleoedd y bu A, B, a D orffe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Nid A oedd olaf yn y 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Gorffenodd A wedi i E orff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Nid athletwr D enillodd y 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2840" y="1773360"/>
            <a:ext cx="708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rydydd oedd athletwr C, gyda athletwr E yn ail.</a:t>
            </a: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164360" y="2421000"/>
            <a:ext cx="133020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7:15:20Z</dcterms:created>
  <dc:creator>Carwyn</dc:creator>
  <dc:description/>
  <dc:language>en-US</dc:language>
  <cp:lastModifiedBy>Carwyn</cp:lastModifiedBy>
  <dcterms:modified xsi:type="dcterms:W3CDTF">2008-12-04T17:38:51Z</dcterms:modified>
  <cp:revision>2</cp:revision>
  <dc:subject/>
  <dc:title>Slide 1</dc:title>
</cp:coreProperties>
</file>